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46C3-89A6-4341-81A5-EFEEC0EDAD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64BE-AC2A-4D0E-8E67-1ED24C48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32839F-A55E-4FBE-9D73-42F95C8D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44DC99-7664-48ED-9BD4-76425D08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ECE53B-701B-4F85-A409-68E5365B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60829E-3F6C-4E45-94BB-EF0909F6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EF1944-C6AA-4220-A37B-4FAE21F8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24E979-9E49-4A9F-8538-BD58BBFC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C82AD2-26C2-4258-887C-94F5340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0EF47-F790-4946-9D69-6CF63F5C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EA55B-E095-41E5-9E52-A01B293555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C1930-E0C7-45BE-BE77-797E5F297D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8221-C2FC-4FC3-874A-5B66095B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19FA9-0DE8-412B-92E4-046B725C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79F0-CE9B-4DB8-8FC7-7ECDB114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3B250-66A5-4884-A01A-DC774C7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2CC70-F7CC-4AAA-AD86-A35020E9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39F99-FF43-4F5A-93A1-056C5A0D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66469-72C7-4400-B02E-28E7E70B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F3FF8-1AE8-4A89-AA69-150A208E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B7F05-CAD4-482E-A8D8-4EA85846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99EC-2E8D-4991-A4FD-84417F22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4A017-9277-473B-9F36-FA4AF7FC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4DF57-8809-42B1-8D57-31839377D5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3E74E-6108-4767-BB2B-EEB90B87D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DBCC4D-BED0-43E2-827C-1728DFA8FF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09740A-7C2D-4E2D-988F-BCCE3BEF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A4D03C-3484-411B-8B62-F6C64537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30C9F-8F60-4BA0-AA9B-EEA53FF0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7BAD91-D521-4184-BD34-731CFFC2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314458-17D1-4868-9037-5CA19BDA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9AB9E-FE6B-41BC-B89D-B4295EE2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5A2723-6229-4941-9365-284C93B5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AF98CC-B193-4F43-9A9C-9618C041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DBC1B-97F0-41DC-BBC7-7D737ABA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92075-BAA0-4A67-AFE2-18A8508B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E6CBEC-F91A-4251-9B01-F35FC0C3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52A036-3040-4115-AD61-F88B9FE90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F6E10C-19EA-4C88-A1E5-9DA611D3DE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9E993-4FB6-45FE-A9C3-26B0293F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533E3-6464-4514-BB9C-3E8561B7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E1C2E6-926A-414E-8EE5-BAE58FE3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91BC0-6FAB-4603-9CE2-3E809725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17F1D-8F82-44FF-A43B-6955BA21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4A4D4-4276-4C9E-88DB-21D240D3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F4483-974C-4B82-9A10-DA313C29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ED583E-AF9F-4D9C-872A-A2B71DA1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D062D-0AAC-4CDB-820D-44E61E06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B89A9-88A7-41F9-B242-860832FA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6CE66-5C2E-4496-A20D-49DF16A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0D58A-E02F-4D4F-A9F8-35A7F3E8F7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1F5B2-2F5D-4D9A-9AC5-D2DB5737A3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3D5AD-DDD8-4622-A287-80B27F44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4906E-EAAF-47D2-9B5F-89815D4B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FFDF6-94C7-472A-AD30-A4C41193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A1710-E546-4710-9FD4-AD96C9DF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13C14-C1A0-476C-AA6D-7DECBABF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E154D-8D74-4753-9A2D-7A630163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05EFA-5C6E-4E27-82F2-C445D551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F9B46-69A7-4711-8AA8-6E976841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E0B03-1B62-4FD6-B8F3-012613FF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A77AD-87DE-471F-9BF1-7232896D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63328-B720-4390-984A-4805446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241EF-6CEB-4446-826B-1A545CDB7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11DF4-7BA7-4068-A9E5-46616097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3ED06-1481-42DF-A9CB-B9F164F8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5DD83-2291-4CF4-B28A-BEF1F44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56774-9A68-4501-8BBE-D8227AA5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EF027-2247-4E33-B18F-919EDB80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45983-A55B-4688-8D5F-4FA3E6BC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1CC06-52DB-4189-8495-B41DE033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A79FB-7035-46E0-A03C-2B5A90F6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7F81E-88BB-49CF-B505-9F3EF006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C9FC0-6CB4-4177-BDCC-98BC77D2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A8C55-1EC3-47CE-A13D-63A643B2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BBF80-2FD8-40FF-8CCD-770D19DF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B2C9D-ECB2-427E-A838-8B6F0BB0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19236-6A3A-4C72-987C-B0ABEC0C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E9EB4-728A-4B1D-A261-7A287CFD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E1F1C-FF15-40E3-BAFA-532BAEBB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3D200-144F-43EE-A0A4-2AD5C8E0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B2496-2931-4967-BA4A-CAD56177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B161D-E6C8-4E34-BFC8-EB1882F2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A3A1A-2173-43C1-988D-431F6FF6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A3E43-E9EC-4BFC-9720-6E9A089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03124-775E-49C5-8AC7-0F8D89CB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25FFD-165E-48E2-9BDA-94C0A4C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F0D76-F3A0-4BEB-8125-EFC1171C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724F-6B22-4CBD-B541-DA7E0821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9F744-7206-4A36-82F1-5010349C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F7B29-D32E-4330-9D2E-625AD5B6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8ABE1-7B87-4EFF-8FE3-5850ECF9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DAAD3-0B0C-4559-97A4-071B3791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1E999-23F9-4B7E-B9B4-0601390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E3D1B-B811-4D44-AED2-00380896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F7074-2E53-4651-8F91-CE69273F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CC16F1-6C0A-4323-B20B-2067C5C1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BC411-2385-4782-AF2B-88DB53B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7A5D3-8A19-4FD6-879B-91793623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95C00-F6E8-46C5-AF0E-E8BE8117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F3003-2C22-4643-821B-B7197B4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251D7-C31C-45C9-8E74-A20C370A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0523F-4739-4483-AE4A-BA883AAE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C7B07-A6A2-4EE9-8BBF-43879CC7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60BBD-23A3-439F-B787-4E2D8B23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AF526-01E9-4DA6-B5CD-8333A40D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AEBFF-A7CC-4DF8-BDE3-3EA5F572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98174-C4EE-4955-8994-933CAB2F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85F87-BAE9-4B65-9D90-D674BA18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30170-9A57-4725-A24B-97B875C0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E8693-4FF6-4A0B-82A7-0745AB94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083F-F3B9-462D-AC45-02B9A49F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37ED-6127-4846-AE91-040F58D1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273D8-4FD8-4B6F-898F-D5471CB4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77E27-7FE4-48F0-8809-083595F9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5EA40-CB70-4C95-A6A1-B939D2D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141A8-DD21-43C4-AEE3-BB34C44C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BC6BB-3C26-4F88-A936-96C4379D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C9232-0A19-49A4-86AE-D795BBCE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278AC-17E3-40B2-935C-0C9D4539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8EA70-4204-470E-8131-CB510241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7A4A4-757D-45F2-A9CB-11CC854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33AA28-4277-4714-A844-1AF29E07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57966-B0DA-4DD8-B053-1080C85E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ADE4EC-98FB-40BE-9389-FDB82F74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F9FA7E-D0AB-4A07-A32D-E3286DB4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4327B5-1A0E-498D-A94B-293DF6E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20DD76-E6B9-4E12-B049-9B59CF70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C41FA-704D-4DF6-AAF9-85CEBF2C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65643-AE06-4BE3-AA8D-FD65A52C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F31A2-3FC1-4BE8-9D1E-E17A2076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2944B-5F12-49D1-A08E-4441D94A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85C545-F032-4881-A805-D840572E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2F687-6159-479F-93CC-0AFFD951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297E7-F00D-4564-8DDC-A869CDE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A9EE6-55BC-4C47-807E-095D1817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AB20D1-9035-4FDA-BE6A-5A5E03D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D5C3D-94F5-4B7B-907F-A2E54196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F0350-9966-4FCC-B3FA-C065ADB5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E640E-6FF9-4796-9338-F8130A8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0E84D-0530-4D6D-A4C9-AF6BB0A9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CC037-76C8-43A5-B6FE-0090AA1B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EED67-9CC8-4A37-879B-286AD47A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4F7CC-5BD1-48BF-ACBF-997283DD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CEC19B-BB51-4E1F-965D-412B1326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394F5-45F1-48D7-8855-D95FAA28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1BF68-8858-463C-A467-C7CB6779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D7400C-78BE-4FF6-8DAA-DC368EA3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2664B-AF83-44AB-8A9F-B1AB6399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8711C-7E76-40D0-A97C-398DFB58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A9D06F-860C-42BD-8F6E-862E5DE8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E5041E-06B6-4394-86C9-C45F8604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46A434-894B-44A7-94D5-FA36636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9231E-1E12-4E23-9013-A4268D4F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D361A-EEC6-4643-BB4D-C5173F41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4E343-E80E-4682-83F9-923B29D0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AC528-6544-4564-A2BC-BE5AAFCF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7EC940-579A-4F7B-B8B3-369FDBFE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6C7F26-65E4-4213-ABEC-E771C12B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34BCD-74C0-4184-A47C-C27CF24B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6ACA0-AE8B-42D3-8787-DEA88DA4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C19CB3-17CE-4B4D-BB66-CEEF8AC4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70D25-5A28-453D-98EB-DB284A41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755B0-4A9D-4FA4-85F4-4634BBDB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72B15-5160-4986-828C-815A68AA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40AB5-0C46-403E-9762-F914B6A7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7DB13-DA3C-4DAE-8244-3852083D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DF046B-E920-4695-8947-1E38EB9161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C8748-4B2C-4757-8535-2142D95F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415EBD-B92C-4DDE-823C-9A6284BF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4AABA-6247-47FE-9E81-2C9E3944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3F4497-E3D1-49FD-B045-045056B0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3190B-3A90-4B20-8C37-30F8EC8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923D7-3B53-4635-89C0-F28EDFD3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76C301-D9ED-4AC4-99BC-76827DF0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82CF4-881C-4B74-A3DE-B7481706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EC6030-6B49-4407-A7E5-8F96D814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0943C-D0B2-4CF1-B3A5-A40BDC0D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97C430-F829-4E96-8D70-E6136D18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F48DA-56A9-4E1F-A98E-C8D8DF79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2FCD5E-10FA-4EB9-820B-F7280EB0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D79E6-68D1-43D2-B605-21A2E034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5D08D4-461D-4A19-82C6-20BC78D1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5074BE-6DA5-46FE-A8E1-65A867B0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F62782-7B71-487E-B37C-8D25CF79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B61BD-F13F-408A-86BB-15D773DD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FD9166-EF57-463A-8EF4-89BF0376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B9D4BC-0CAD-4D67-B11E-0D600992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2E4EA9-E68E-4B51-B9F8-6824641C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FD9B2-BD26-4822-9335-A69058D8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4EAE7-5F09-4D32-B6AF-418853C8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48DD0D-BC82-405D-A0D5-6417E45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82576-D12E-460D-AEF6-4D2AF1F5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CBFE10-C7DC-430D-ACC9-DDC24436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8B3828-A91E-4731-AE9F-68780641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409A4B-D08E-4B0E-AA51-A64ABE7C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E319D-D797-487E-8AFB-8E99BDE8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C6441-8F4E-496E-8EFE-880CA866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CA51F-B4D3-4825-87C7-459FC002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C3A78-DC29-4A25-82B2-FAB31FA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381CC-8C97-4EC1-94E4-FF75C545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B7741-32FA-4814-8B83-2CDE641B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8CE3D9-823D-40FB-B5EE-F88F5942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4372A6-000D-4466-8640-189D504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CEE25-AA9E-409C-A9AC-ECBA40A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103DB0-9B08-4B8D-9AF7-A27FFE9E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1420A-9B4B-4A39-92BB-73B7FF1C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1B876C-8B55-4343-87AE-C4D98BAA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49AD1-18CF-4E5C-8ED3-509607EB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4872E6-61E1-48AB-8F3C-F981CA5F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40025-A222-4F3A-937D-257E5A05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AD6C-0B0D-4177-AC1C-CB61375E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ADA3AE-7BDD-4847-BE95-0E9F1C75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C44A9C-6FE9-4367-A210-3D10A20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5BD68-08CC-4FA8-9C50-BB94A243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54F4B-70C2-4307-850C-3CB0C857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1E127E-0FAA-4ED1-8095-9D13AA3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DD3C2-BA60-45B3-A98F-8405A19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DAAD96-E02F-4A69-BA30-9A60B6C1D9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E6B9A-5C1E-46CF-BE7B-00972C96C3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7D71B-6901-446E-9CBE-ABAA728F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87827-226D-4140-A5FB-5223ACA9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10DC-7CF8-4878-B8AD-510F14EB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C80FF-5DBD-45ED-B7F0-FE02497B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CAB6-F64C-4F51-8E08-82EE1EB0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8DF7D-372B-4AE5-AF89-37F9A42E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976B-FD7D-48EC-9408-8210FF2D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77B8-0839-436A-8BEB-13C4A278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8C4A-42C5-4235-BE9F-09BE8B0C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8004-A443-4758-AF36-26726F4A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9C654-1C27-437C-A6EB-A6522C6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AC8BD-6714-4436-9F72-E92009E29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FBC89-92D6-4D0B-9323-51A8A112B1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835C-5A20-4150-994A-9F79B45E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A7961-2BF3-41F4-B7AF-D90EA8D3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EBAF9-D5E2-4B78-904C-ABAF0B1F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6F126-147E-44F2-BDCA-FBCFB41C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58B58-AAD0-4567-9C94-BDEA01E9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4ED0F-F3F6-4470-82BA-B2F06E73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F6D36-4EF2-48B9-925C-CCC4BC72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EA960-E0E5-4327-A18C-E2B79B98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B21A47-BC94-4792-89D6-87025162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E30A5B-4BC1-40DA-942A-8020BE92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05D82-D1E6-429F-AB3C-190E882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7B18-C4A4-4043-9D55-6CDBBECB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8D474-74B7-48B6-9AA1-CBD0107194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FEBA14-CD1F-4C13-9AE3-7D7AEB99A3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20D7AD-EE08-49FD-A414-0E21D281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31B781-CEDD-4B36-B6D2-070BD340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D3EA3-F2C7-4436-9D9D-992BC3D2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84243E-C734-4709-9802-EFDF5490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981AF5-2CC3-467E-95C9-CFCA1EED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C30862-E3EC-4D87-B88B-5F29E095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179C99-6363-45AB-8DA6-B02332FC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59EB9F-9F46-423A-93E6-BC37390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2A80-4B4E-4F15-96F7-C71B9CBE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07304-6872-4F53-9D6B-E7913312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F10273-FE7C-47EE-8B74-90D79AD5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CF7FF-3910-4C34-83B3-89A56B72F2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D5A9-2BF7-446D-934B-D10AA914C9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CD4AF-D282-4647-A3C4-9A99CDD9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B8EB6-B856-4432-9726-FAAAFA29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B97A-EE89-4450-8082-E681A81B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40ACE-C279-45B7-BB74-522F0C2B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684B-3A9D-457F-AF50-118F51B6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6988-0154-4387-AD17-5BCBBE62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DFD8-7C12-4F3D-AE73-D6CA94D1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915F9-A8FD-4E40-8948-1F89C70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D6343-DFD0-4889-8AEE-C5689404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4D12-E574-4096-9FB6-CCC0D864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448AF-2EE0-4AB4-824A-5DB1A87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CA13D-14FB-4F0E-9E14-B87CE26294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5A009-BE91-4104-8EBC-E939ABC1DB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CDBFF-CD4D-445A-9D3D-E75C3C53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56BF4-8576-4731-B127-5110C7C4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D5CFA5-B634-468C-983D-C8E55897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33C1E-C5CF-4B1D-9A08-13B09206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0BF9-7BD6-46A0-AE94-F710B575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43539-5E61-4AB6-B9C6-60CB934B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6C97D-5A04-4FB1-93CE-014157EE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B214F-06EE-4551-9248-7CB0CEBB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565F5-7E76-490C-87E7-28FBB7FC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657CD-969C-4DB3-9AAF-99350C16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62BA2-8E27-4A24-AE7B-38090EDB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28D8F-9093-4888-A362-0F2316BF8A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421696-E27C-4282-8023-1DD0FD3B2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7B415E-09DE-4548-89A9-49A1A807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164BD6-43DC-4BDC-AF91-43BCD4AA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7685-DEE3-439C-9819-2CBD4CEAFF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BB80-1BBC-4394-A0DC-DBF6367D9E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DD3A-9495-4390-9801-A33DDF2CE29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C4E4-9CA9-48E4-A3C5-CB633FE640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78E8-E2F7-4D3D-B185-ED6F46AA875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8697-B1F2-4DEE-BEE4-4347006EBD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3D72-D9C2-4251-B592-1E133273502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0ADA-C9D6-4B2A-82E5-90DDD104812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2231-AA14-4902-A933-235C70D380C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8F3A-3C3B-4FF8-85E8-3EB180A05E8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537C-0F4F-4CD3-ABCA-BEFEEDBCF76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868-F76F-4AB3-842C-99432EC5F53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F147-B304-49C8-84FC-FAE1314A979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E7AC-EB78-413E-A314-CB9F9AAEE67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965C-8718-488E-A079-82F53FFCCE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73FE-B780-41CC-8B3B-F75B05EC38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BC49-D8AA-4209-B663-EB85237647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ABBD-4B61-42E3-8D71-EF4480DB19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9C28-6F01-458F-8C46-D124A9ABCAF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808F-9210-4D89-8ED3-7DCA0E4F76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9BCC-FEAC-4A8E-9E89-6035969428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E6A9-EF6B-4355-B4CA-22FE9784FA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B19F-0EAE-4613-A80A-A01D58F7B1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F118-78A0-473D-861E-E5551E04F2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2205000" y="264492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655640" y="259884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方形和正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文本框 1"/>
          <p:cNvSpPr/>
          <p:nvPr/>
        </p:nvSpPr>
        <p:spPr>
          <a:xfrm>
            <a:off x="228600" y="896760"/>
            <a:ext cx="837576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两个长都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，宽都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的长方形纸板拼成一个正方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文本框 4"/>
          <p:cNvSpPr/>
          <p:nvPr/>
        </p:nvSpPr>
        <p:spPr>
          <a:xfrm>
            <a:off x="223920" y="1889280"/>
            <a:ext cx="774540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这个正方形的周长是多少厘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文本框 5"/>
          <p:cNvSpPr/>
          <p:nvPr/>
        </p:nvSpPr>
        <p:spPr>
          <a:xfrm>
            <a:off x="236520" y="3457440"/>
            <a:ext cx="7745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如果拼成一个长方形，周长又是多少厘米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6"/>
          <p:cNvSpPr/>
          <p:nvPr/>
        </p:nvSpPr>
        <p:spPr>
          <a:xfrm>
            <a:off x="1930320" y="2408400"/>
            <a:ext cx="2446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4=1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文本框 8"/>
          <p:cNvSpPr/>
          <p:nvPr/>
        </p:nvSpPr>
        <p:spPr>
          <a:xfrm>
            <a:off x="920880" y="2857680"/>
            <a:ext cx="550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拼成正方形的周长是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9"/>
          <p:cNvSpPr/>
          <p:nvPr/>
        </p:nvSpPr>
        <p:spPr>
          <a:xfrm>
            <a:off x="1930320" y="4238640"/>
            <a:ext cx="33433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8+2)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=2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厘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文本框 10"/>
          <p:cNvSpPr/>
          <p:nvPr/>
        </p:nvSpPr>
        <p:spPr>
          <a:xfrm>
            <a:off x="849240" y="4883040"/>
            <a:ext cx="550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拼成长方形的周长是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48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9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50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1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3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4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5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6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7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文本框 1"/>
          <p:cNvSpPr/>
          <p:nvPr/>
        </p:nvSpPr>
        <p:spPr>
          <a:xfrm>
            <a:off x="233280" y="784080"/>
            <a:ext cx="83581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正方形的鸡舍如下图，一面靠墙，三面用篱笆围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组合 39"/>
          <p:cNvGrpSpPr/>
          <p:nvPr/>
        </p:nvGrpSpPr>
        <p:grpSpPr>
          <a:xfrm>
            <a:off x="6283440" y="1590480"/>
            <a:ext cx="1393560" cy="981360"/>
            <a:chOff x="6283440" y="1590480"/>
            <a:chExt cx="1393560" cy="981360"/>
          </a:xfrm>
        </p:grpSpPr>
        <p:sp>
          <p:nvSpPr>
            <p:cNvPr id="1260" name="文本框 4"/>
            <p:cNvSpPr/>
            <p:nvPr/>
          </p:nvSpPr>
          <p:spPr>
            <a:xfrm>
              <a:off x="6296760" y="1691280"/>
              <a:ext cx="1287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直接连接符 5"/>
            <p:cNvSpPr/>
            <p:nvPr/>
          </p:nvSpPr>
          <p:spPr>
            <a:xfrm>
              <a:off x="6296760" y="1842480"/>
              <a:ext cx="1287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文本框 6"/>
            <p:cNvSpPr/>
            <p:nvPr/>
          </p:nvSpPr>
          <p:spPr>
            <a:xfrm>
              <a:off x="6283440" y="2320200"/>
              <a:ext cx="2138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直接连接符 8"/>
            <p:cNvSpPr/>
            <p:nvPr/>
          </p:nvSpPr>
          <p:spPr>
            <a:xfrm flipV="1">
              <a:off x="649728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直接连接符 9"/>
            <p:cNvSpPr/>
            <p:nvPr/>
          </p:nvSpPr>
          <p:spPr>
            <a:xfrm flipV="1">
              <a:off x="637380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直接连接符 10"/>
            <p:cNvSpPr/>
            <p:nvPr/>
          </p:nvSpPr>
          <p:spPr>
            <a:xfrm flipV="1">
              <a:off x="662544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直接连接符 11"/>
            <p:cNvSpPr/>
            <p:nvPr/>
          </p:nvSpPr>
          <p:spPr>
            <a:xfrm flipV="1">
              <a:off x="674028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直接连接符 12"/>
            <p:cNvSpPr/>
            <p:nvPr/>
          </p:nvSpPr>
          <p:spPr>
            <a:xfrm flipV="1">
              <a:off x="685008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直接连接符 13"/>
            <p:cNvSpPr/>
            <p:nvPr/>
          </p:nvSpPr>
          <p:spPr>
            <a:xfrm flipV="1">
              <a:off x="694908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直接连接符 14"/>
            <p:cNvSpPr/>
            <p:nvPr/>
          </p:nvSpPr>
          <p:spPr>
            <a:xfrm flipV="1">
              <a:off x="705852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直接连接符 15"/>
            <p:cNvSpPr/>
            <p:nvPr/>
          </p:nvSpPr>
          <p:spPr>
            <a:xfrm flipV="1">
              <a:off x="716832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直接连接符 16"/>
            <p:cNvSpPr/>
            <p:nvPr/>
          </p:nvSpPr>
          <p:spPr>
            <a:xfrm flipV="1">
              <a:off x="728316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直接连接符 17"/>
            <p:cNvSpPr/>
            <p:nvPr/>
          </p:nvSpPr>
          <p:spPr>
            <a:xfrm flipV="1">
              <a:off x="739260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直接连接符 18"/>
            <p:cNvSpPr/>
            <p:nvPr/>
          </p:nvSpPr>
          <p:spPr>
            <a:xfrm flipV="1">
              <a:off x="7507440" y="1590480"/>
              <a:ext cx="169560" cy="25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矩形 38"/>
            <p:cNvSpPr/>
            <p:nvPr/>
          </p:nvSpPr>
          <p:spPr>
            <a:xfrm>
              <a:off x="6701760" y="1842120"/>
              <a:ext cx="690480" cy="72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5" name="文本框 40"/>
          <p:cNvSpPr/>
          <p:nvPr/>
        </p:nvSpPr>
        <p:spPr>
          <a:xfrm>
            <a:off x="633240" y="2293920"/>
            <a:ext cx="581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需要准备多长的篱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文本框 41"/>
          <p:cNvSpPr/>
          <p:nvPr/>
        </p:nvSpPr>
        <p:spPr>
          <a:xfrm>
            <a:off x="633240" y="3886200"/>
            <a:ext cx="69548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现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长的篱笆，按上图能围成边长是多少米的正方形鸡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文本框 42"/>
          <p:cNvSpPr/>
          <p:nvPr/>
        </p:nvSpPr>
        <p:spPr>
          <a:xfrm>
            <a:off x="1442880" y="2959200"/>
            <a:ext cx="29149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=1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文本框 44"/>
          <p:cNvSpPr/>
          <p:nvPr/>
        </p:nvSpPr>
        <p:spPr>
          <a:xfrm>
            <a:off x="1273320" y="5062680"/>
            <a:ext cx="32544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27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=9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文本框 45"/>
          <p:cNvSpPr/>
          <p:nvPr/>
        </p:nvSpPr>
        <p:spPr>
          <a:xfrm>
            <a:off x="1173240" y="3603600"/>
            <a:ext cx="3830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需要准备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米的篱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文本框 46"/>
          <p:cNvSpPr/>
          <p:nvPr/>
        </p:nvSpPr>
        <p:spPr>
          <a:xfrm>
            <a:off x="866880" y="5753160"/>
            <a:ext cx="5343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能围成边长是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米的正方形鸡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82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3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84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5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6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7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2" name="文本框 2"/>
          <p:cNvSpPr/>
          <p:nvPr/>
        </p:nvSpPr>
        <p:spPr>
          <a:xfrm>
            <a:off x="6754680" y="2417760"/>
            <a:ext cx="9972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2658960" cy="525600"/>
            <a:chOff x="0" y="101520"/>
            <a:chExt cx="2658960" cy="525600"/>
          </a:xfrm>
        </p:grpSpPr>
        <p:pic>
          <p:nvPicPr>
            <p:cNvPr id="999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18080" y="101520"/>
              <a:ext cx="2540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350640" cy="272160"/>
              <a:chOff x="0" y="197280"/>
              <a:chExt cx="350640" cy="272160"/>
            </a:xfrm>
          </p:grpSpPr>
          <p:sp>
            <p:nvSpPr>
              <p:cNvPr id="1001" name="椭圆 3"/>
              <p:cNvSpPr/>
              <p:nvPr/>
            </p:nvSpPr>
            <p:spPr>
              <a:xfrm rot="16200000">
                <a:off x="226800" y="356400"/>
                <a:ext cx="90720" cy="11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640" y="339480"/>
                <a:ext cx="19800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26800" y="240120"/>
                <a:ext cx="90720" cy="11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640" y="213480"/>
                <a:ext cx="19800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7840"/>
                <a:ext cx="2808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6160"/>
                <a:ext cx="2808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600"/>
                <a:ext cx="2808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28080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文本框 1"/>
          <p:cNvSpPr/>
          <p:nvPr/>
        </p:nvSpPr>
        <p:spPr>
          <a:xfrm>
            <a:off x="647640" y="2479680"/>
            <a:ext cx="147636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和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20"/>
          <p:cNvSpPr/>
          <p:nvPr/>
        </p:nvSpPr>
        <p:spPr>
          <a:xfrm flipV="1" rot="10800000">
            <a:off x="2124000" y="1518120"/>
            <a:ext cx="214560" cy="3868920"/>
          </a:xfrm>
          <a:custGeom>
            <a:avLst/>
            <a:gdLst>
              <a:gd name="textAreaLeft" fmla="*/ 0 w 214560"/>
              <a:gd name="textAreaRight" fmla="*/ 77400 w 214560"/>
              <a:gd name="textAreaTop" fmla="*/ 65520 h 3868920"/>
              <a:gd name="textAreaBottom" fmla="*/ 3803400 h 386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5"/>
                  <a:pt x="10800" y="1170"/>
                </a:cubicBezTo>
                <a:lnTo>
                  <a:pt x="10800" y="9630"/>
                </a:lnTo>
                <a:cubicBezTo>
                  <a:pt x="10800" y="10215"/>
                  <a:pt x="16200" y="10800"/>
                  <a:pt x="21600" y="10800"/>
                </a:cubicBezTo>
                <a:cubicBezTo>
                  <a:pt x="16200" y="10800"/>
                  <a:pt x="10800" y="11385"/>
                  <a:pt x="10800" y="11970"/>
                </a:cubicBezTo>
                <a:lnTo>
                  <a:pt x="10800" y="20430"/>
                </a:lnTo>
                <a:cubicBezTo>
                  <a:pt x="10800" y="2101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圆角矩形 8"/>
          <p:cNvSpPr/>
          <p:nvPr/>
        </p:nvSpPr>
        <p:spPr>
          <a:xfrm>
            <a:off x="2340000" y="1413000"/>
            <a:ext cx="2232000" cy="576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圆角矩形 9"/>
          <p:cNvSpPr/>
          <p:nvPr/>
        </p:nvSpPr>
        <p:spPr>
          <a:xfrm>
            <a:off x="2340000" y="2479680"/>
            <a:ext cx="2232000" cy="971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圆角矩形 10"/>
          <p:cNvSpPr/>
          <p:nvPr/>
        </p:nvSpPr>
        <p:spPr>
          <a:xfrm>
            <a:off x="2338560" y="3668760"/>
            <a:ext cx="2233440" cy="979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圆角矩形 11"/>
          <p:cNvSpPr/>
          <p:nvPr/>
        </p:nvSpPr>
        <p:spPr>
          <a:xfrm>
            <a:off x="2338560" y="4959360"/>
            <a:ext cx="2233440" cy="5745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右箭头 12"/>
          <p:cNvSpPr/>
          <p:nvPr/>
        </p:nvSpPr>
        <p:spPr>
          <a:xfrm>
            <a:off x="4780080" y="1592280"/>
            <a:ext cx="360360" cy="217440"/>
          </a:xfrm>
          <a:prstGeom prst="rightArrow">
            <a:avLst>
              <a:gd name="adj1" fmla="val 50000"/>
              <a:gd name="adj2" fmla="val 4979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右箭头 13"/>
          <p:cNvSpPr/>
          <p:nvPr/>
        </p:nvSpPr>
        <p:spPr>
          <a:xfrm>
            <a:off x="4780080" y="2882880"/>
            <a:ext cx="360360" cy="216000"/>
          </a:xfrm>
          <a:prstGeom prst="rightArrow">
            <a:avLst>
              <a:gd name="adj1" fmla="val 50000"/>
              <a:gd name="adj2" fmla="val 5012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右箭头 15"/>
          <p:cNvSpPr/>
          <p:nvPr/>
        </p:nvSpPr>
        <p:spPr>
          <a:xfrm>
            <a:off x="4780080" y="4051440"/>
            <a:ext cx="360360" cy="215640"/>
          </a:xfrm>
          <a:prstGeom prst="rightArrow">
            <a:avLst>
              <a:gd name="adj1" fmla="val 50000"/>
              <a:gd name="adj2" fmla="val 50211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16"/>
          <p:cNvSpPr/>
          <p:nvPr/>
        </p:nvSpPr>
        <p:spPr>
          <a:xfrm>
            <a:off x="2397240" y="1413000"/>
            <a:ext cx="2317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边形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17"/>
          <p:cNvSpPr/>
          <p:nvPr/>
        </p:nvSpPr>
        <p:spPr>
          <a:xfrm>
            <a:off x="2330280" y="2495520"/>
            <a:ext cx="23828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和正方形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18"/>
          <p:cNvSpPr/>
          <p:nvPr/>
        </p:nvSpPr>
        <p:spPr>
          <a:xfrm>
            <a:off x="2333520" y="3689280"/>
            <a:ext cx="23814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和正方形的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19"/>
          <p:cNvSpPr/>
          <p:nvPr/>
        </p:nvSpPr>
        <p:spPr>
          <a:xfrm>
            <a:off x="2330280" y="4959360"/>
            <a:ext cx="2387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画图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20"/>
          <p:cNvSpPr/>
          <p:nvPr/>
        </p:nvSpPr>
        <p:spPr>
          <a:xfrm>
            <a:off x="5450040" y="1238400"/>
            <a:ext cx="2692080" cy="9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边形，四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21"/>
          <p:cNvSpPr/>
          <p:nvPr/>
        </p:nvSpPr>
        <p:spPr>
          <a:xfrm>
            <a:off x="5450040" y="2343240"/>
            <a:ext cx="3824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形：对边相等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直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2"/>
          <p:cNvSpPr/>
          <p:nvPr/>
        </p:nvSpPr>
        <p:spPr>
          <a:xfrm>
            <a:off x="5450040" y="2998800"/>
            <a:ext cx="3824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形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条边相等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直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23"/>
          <p:cNvSpPr/>
          <p:nvPr/>
        </p:nvSpPr>
        <p:spPr>
          <a:xfrm>
            <a:off x="5299200" y="3786120"/>
            <a:ext cx="38242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形的周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宽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24"/>
          <p:cNvSpPr/>
          <p:nvPr/>
        </p:nvSpPr>
        <p:spPr>
          <a:xfrm>
            <a:off x="5299200" y="4192560"/>
            <a:ext cx="3824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正方形的周长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边长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028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030" name="椭圆 3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椭圆 29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8" name="文本框 1"/>
          <p:cNvSpPr/>
          <p:nvPr/>
        </p:nvSpPr>
        <p:spPr>
          <a:xfrm>
            <a:off x="463680" y="765000"/>
            <a:ext cx="2043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一、填一填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4"/>
          <p:cNvSpPr/>
          <p:nvPr/>
        </p:nvSpPr>
        <p:spPr>
          <a:xfrm>
            <a:off x="369720" y="1203480"/>
            <a:ext cx="724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形的（    ）相等，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角都是（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5"/>
          <p:cNvSpPr/>
          <p:nvPr/>
        </p:nvSpPr>
        <p:spPr>
          <a:xfrm>
            <a:off x="380880" y="1695600"/>
            <a:ext cx="724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正方形边长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米，它的周长是（   ）分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6"/>
          <p:cNvSpPr/>
          <p:nvPr/>
        </p:nvSpPr>
        <p:spPr>
          <a:xfrm>
            <a:off x="369720" y="2314440"/>
            <a:ext cx="8115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长方形的长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厘米，宽比长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厘米，它的周长是（    ）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文本框 8"/>
          <p:cNvSpPr/>
          <p:nvPr/>
        </p:nvSpPr>
        <p:spPr>
          <a:xfrm>
            <a:off x="369720" y="2967120"/>
            <a:ext cx="853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围着一个正方形的游泳池走一圈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米，这个游泳池的边长是（  ）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文本框 9"/>
          <p:cNvSpPr/>
          <p:nvPr/>
        </p:nvSpPr>
        <p:spPr>
          <a:xfrm>
            <a:off x="463680" y="3835440"/>
            <a:ext cx="81151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图是一个长方形，长和宽如图所示。在这个长方形中剪出一个最大的正方形，正方形的边长是（    ）厘米，周长是（   ）厘米，剩下的图形是一个（    ）形，长是（   ）厘米，宽是（   ）厘米，它的周长是（    ）厘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0"/>
          <p:cNvSpPr/>
          <p:nvPr/>
        </p:nvSpPr>
        <p:spPr>
          <a:xfrm>
            <a:off x="4178160" y="5629320"/>
            <a:ext cx="158436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11"/>
          <p:cNvSpPr/>
          <p:nvPr/>
        </p:nvSpPr>
        <p:spPr>
          <a:xfrm>
            <a:off x="4535640" y="5238720"/>
            <a:ext cx="8697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12"/>
          <p:cNvSpPr/>
          <p:nvPr/>
        </p:nvSpPr>
        <p:spPr>
          <a:xfrm>
            <a:off x="5865840" y="5805360"/>
            <a:ext cx="8697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1"/>
          <p:cNvSpPr/>
          <p:nvPr/>
        </p:nvSpPr>
        <p:spPr>
          <a:xfrm>
            <a:off x="1873080" y="1324080"/>
            <a:ext cx="7527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对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4"/>
          <p:cNvSpPr/>
          <p:nvPr/>
        </p:nvSpPr>
        <p:spPr>
          <a:xfrm>
            <a:off x="4805280" y="1324080"/>
            <a:ext cx="75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直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5"/>
          <p:cNvSpPr/>
          <p:nvPr/>
        </p:nvSpPr>
        <p:spPr>
          <a:xfrm>
            <a:off x="5164200" y="1793880"/>
            <a:ext cx="465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6"/>
          <p:cNvSpPr/>
          <p:nvPr/>
        </p:nvSpPr>
        <p:spPr>
          <a:xfrm>
            <a:off x="7064280" y="2475000"/>
            <a:ext cx="669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8"/>
          <p:cNvSpPr/>
          <p:nvPr/>
        </p:nvSpPr>
        <p:spPr>
          <a:xfrm>
            <a:off x="7765920" y="3092400"/>
            <a:ext cx="3700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9"/>
          <p:cNvSpPr/>
          <p:nvPr/>
        </p:nvSpPr>
        <p:spPr>
          <a:xfrm>
            <a:off x="3868560" y="4194000"/>
            <a:ext cx="48420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文本框 10"/>
          <p:cNvSpPr/>
          <p:nvPr/>
        </p:nvSpPr>
        <p:spPr>
          <a:xfrm>
            <a:off x="6372360" y="4194000"/>
            <a:ext cx="495000" cy="4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文本框 11"/>
          <p:cNvSpPr/>
          <p:nvPr/>
        </p:nvSpPr>
        <p:spPr>
          <a:xfrm>
            <a:off x="2206800" y="4613400"/>
            <a:ext cx="7524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长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文本框 12"/>
          <p:cNvSpPr/>
          <p:nvPr/>
        </p:nvSpPr>
        <p:spPr>
          <a:xfrm>
            <a:off x="4294080" y="4613400"/>
            <a:ext cx="4539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文本框 13"/>
          <p:cNvSpPr/>
          <p:nvPr/>
        </p:nvSpPr>
        <p:spPr>
          <a:xfrm>
            <a:off x="6497640" y="4686480"/>
            <a:ext cx="369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14"/>
          <p:cNvSpPr/>
          <p:nvPr/>
        </p:nvSpPr>
        <p:spPr>
          <a:xfrm>
            <a:off x="1525680" y="5105520"/>
            <a:ext cx="5554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文本框 1"/>
          <p:cNvSpPr/>
          <p:nvPr/>
        </p:nvSpPr>
        <p:spPr>
          <a:xfrm>
            <a:off x="299880" y="903240"/>
            <a:ext cx="784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判一判。正确的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  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误的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   ”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文本框 4"/>
          <p:cNvSpPr/>
          <p:nvPr/>
        </p:nvSpPr>
        <p:spPr>
          <a:xfrm>
            <a:off x="476280" y="1542960"/>
            <a:ext cx="73245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对边相等的四边形一定是长方形。      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文本框 5"/>
          <p:cNvSpPr/>
          <p:nvPr/>
        </p:nvSpPr>
        <p:spPr>
          <a:xfrm>
            <a:off x="4404600" y="839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文本框 6"/>
          <p:cNvSpPr/>
          <p:nvPr/>
        </p:nvSpPr>
        <p:spPr>
          <a:xfrm>
            <a:off x="6931800" y="8398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文本框 8"/>
          <p:cNvSpPr/>
          <p:nvPr/>
        </p:nvSpPr>
        <p:spPr>
          <a:xfrm>
            <a:off x="561960" y="2384280"/>
            <a:ext cx="8420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个角都是直角的四边形一定是正方形。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9"/>
          <p:cNvSpPr/>
          <p:nvPr/>
        </p:nvSpPr>
        <p:spPr>
          <a:xfrm>
            <a:off x="561960" y="3214800"/>
            <a:ext cx="7686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长方形和正方形都是四边形。          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10"/>
          <p:cNvSpPr/>
          <p:nvPr/>
        </p:nvSpPr>
        <p:spPr>
          <a:xfrm>
            <a:off x="488880" y="3949560"/>
            <a:ext cx="89852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长方形的长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，宽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，它的周长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米。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1"/>
          <p:cNvSpPr/>
          <p:nvPr/>
        </p:nvSpPr>
        <p:spPr>
          <a:xfrm>
            <a:off x="7297560" y="332748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4"/>
          <p:cNvSpPr/>
          <p:nvPr/>
        </p:nvSpPr>
        <p:spPr>
          <a:xfrm>
            <a:off x="7042320" y="1657440"/>
            <a:ext cx="504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5"/>
          <p:cNvSpPr/>
          <p:nvPr/>
        </p:nvSpPr>
        <p:spPr>
          <a:xfrm>
            <a:off x="7128000" y="2498760"/>
            <a:ext cx="504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6"/>
          <p:cNvSpPr/>
          <p:nvPr/>
        </p:nvSpPr>
        <p:spPr>
          <a:xfrm>
            <a:off x="7745400" y="441324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070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1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072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3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5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7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8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文本框 1"/>
          <p:cNvSpPr/>
          <p:nvPr/>
        </p:nvSpPr>
        <p:spPr>
          <a:xfrm>
            <a:off x="463680" y="627120"/>
            <a:ext cx="3806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选一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"/>
          <p:cNvSpPr/>
          <p:nvPr/>
        </p:nvSpPr>
        <p:spPr>
          <a:xfrm>
            <a:off x="608040" y="1461960"/>
            <a:ext cx="78976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边长为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的正方形的周长是（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5"/>
          <p:cNvSpPr/>
          <p:nvPr/>
        </p:nvSpPr>
        <p:spPr>
          <a:xfrm>
            <a:off x="774720" y="2309760"/>
            <a:ext cx="588636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.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   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.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6"/>
          <p:cNvSpPr/>
          <p:nvPr/>
        </p:nvSpPr>
        <p:spPr>
          <a:xfrm>
            <a:off x="608040" y="3102120"/>
            <a:ext cx="78994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如图        中，甲、乙的周长相比，（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组合 10"/>
          <p:cNvGrpSpPr/>
          <p:nvPr/>
        </p:nvGrpSpPr>
        <p:grpSpPr>
          <a:xfrm>
            <a:off x="1708200" y="3195720"/>
            <a:ext cx="1155600" cy="863640"/>
            <a:chOff x="1708200" y="3195720"/>
            <a:chExt cx="1155600" cy="863640"/>
          </a:xfrm>
        </p:grpSpPr>
        <p:sp>
          <p:nvSpPr>
            <p:cNvPr id="1085" name="矩形 4"/>
            <p:cNvSpPr/>
            <p:nvPr/>
          </p:nvSpPr>
          <p:spPr>
            <a:xfrm>
              <a:off x="1779840" y="3339000"/>
              <a:ext cx="1080720" cy="72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任意多边形 6"/>
            <p:cNvSpPr/>
            <p:nvPr/>
          </p:nvSpPr>
          <p:spPr>
            <a:xfrm>
              <a:off x="1779840" y="3339000"/>
              <a:ext cx="1083960" cy="719280"/>
            </a:xfrm>
            <a:custGeom>
              <a:avLst/>
              <a:gdLst/>
              <a:ahLst/>
              <a:rect l="l" t="t" r="r" b="b"/>
              <a:pathLst>
                <a:path w="1042035" h="659765">
                  <a:moveTo>
                    <a:pt x="0" y="659765"/>
                  </a:moveTo>
                  <a:cubicBezTo>
                    <a:pt x="9525" y="644525"/>
                    <a:pt x="31115" y="608330"/>
                    <a:pt x="52070" y="577215"/>
                  </a:cubicBezTo>
                  <a:cubicBezTo>
                    <a:pt x="73025" y="546100"/>
                    <a:pt x="78740" y="529590"/>
                    <a:pt x="103505" y="504825"/>
                  </a:cubicBezTo>
                  <a:cubicBezTo>
                    <a:pt x="128270" y="480060"/>
                    <a:pt x="157480" y="478155"/>
                    <a:pt x="175895" y="453390"/>
                  </a:cubicBezTo>
                  <a:cubicBezTo>
                    <a:pt x="194310" y="428625"/>
                    <a:pt x="206375" y="399415"/>
                    <a:pt x="196215" y="381000"/>
                  </a:cubicBezTo>
                  <a:cubicBezTo>
                    <a:pt x="186055" y="362585"/>
                    <a:pt x="130175" y="379095"/>
                    <a:pt x="123825" y="360680"/>
                  </a:cubicBezTo>
                  <a:cubicBezTo>
                    <a:pt x="117475" y="342265"/>
                    <a:pt x="142240" y="311150"/>
                    <a:pt x="165100" y="288290"/>
                  </a:cubicBezTo>
                  <a:cubicBezTo>
                    <a:pt x="187960" y="265430"/>
                    <a:pt x="208280" y="261620"/>
                    <a:pt x="237490" y="247015"/>
                  </a:cubicBezTo>
                  <a:cubicBezTo>
                    <a:pt x="266700" y="232410"/>
                    <a:pt x="278765" y="224790"/>
                    <a:pt x="309880" y="216535"/>
                  </a:cubicBezTo>
                  <a:cubicBezTo>
                    <a:pt x="340995" y="208280"/>
                    <a:pt x="361315" y="210185"/>
                    <a:pt x="392430" y="205740"/>
                  </a:cubicBezTo>
                  <a:cubicBezTo>
                    <a:pt x="423545" y="201295"/>
                    <a:pt x="435610" y="201930"/>
                    <a:pt x="464185" y="195580"/>
                  </a:cubicBezTo>
                  <a:cubicBezTo>
                    <a:pt x="492760" y="189230"/>
                    <a:pt x="507365" y="177165"/>
                    <a:pt x="536575" y="175260"/>
                  </a:cubicBezTo>
                  <a:cubicBezTo>
                    <a:pt x="565785" y="173355"/>
                    <a:pt x="580390" y="179070"/>
                    <a:pt x="608965" y="185420"/>
                  </a:cubicBezTo>
                  <a:cubicBezTo>
                    <a:pt x="637540" y="191770"/>
                    <a:pt x="647700" y="207645"/>
                    <a:pt x="680720" y="205740"/>
                  </a:cubicBezTo>
                  <a:cubicBezTo>
                    <a:pt x="713740" y="203835"/>
                    <a:pt x="740410" y="187325"/>
                    <a:pt x="773430" y="175260"/>
                  </a:cubicBezTo>
                  <a:cubicBezTo>
                    <a:pt x="806450" y="163195"/>
                    <a:pt x="816610" y="156845"/>
                    <a:pt x="845820" y="144145"/>
                  </a:cubicBezTo>
                  <a:cubicBezTo>
                    <a:pt x="875030" y="131445"/>
                    <a:pt x="889000" y="127635"/>
                    <a:pt x="918210" y="113030"/>
                  </a:cubicBezTo>
                  <a:cubicBezTo>
                    <a:pt x="947420" y="98425"/>
                    <a:pt x="965835" y="94615"/>
                    <a:pt x="990600" y="71755"/>
                  </a:cubicBezTo>
                  <a:cubicBezTo>
                    <a:pt x="1015365" y="48895"/>
                    <a:pt x="1033145" y="13335"/>
                    <a:pt x="10420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文本框 8"/>
            <p:cNvSpPr/>
            <p:nvPr/>
          </p:nvSpPr>
          <p:spPr>
            <a:xfrm>
              <a:off x="1708200" y="3195720"/>
              <a:ext cx="466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文本框 9"/>
            <p:cNvSpPr/>
            <p:nvPr/>
          </p:nvSpPr>
          <p:spPr>
            <a:xfrm>
              <a:off x="2175120" y="3593160"/>
              <a:ext cx="466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文本框 11"/>
          <p:cNvSpPr/>
          <p:nvPr/>
        </p:nvSpPr>
        <p:spPr>
          <a:xfrm>
            <a:off x="923760" y="4321080"/>
            <a:ext cx="1549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12"/>
          <p:cNvSpPr/>
          <p:nvPr/>
        </p:nvSpPr>
        <p:spPr>
          <a:xfrm>
            <a:off x="2720880" y="4321080"/>
            <a:ext cx="1549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13"/>
          <p:cNvSpPr/>
          <p:nvPr/>
        </p:nvSpPr>
        <p:spPr>
          <a:xfrm>
            <a:off x="4846680" y="4321080"/>
            <a:ext cx="15494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样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14"/>
          <p:cNvSpPr/>
          <p:nvPr/>
        </p:nvSpPr>
        <p:spPr>
          <a:xfrm>
            <a:off x="709560" y="5021280"/>
            <a:ext cx="71042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列图形中，不是四边形的是（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平行四边形 15"/>
          <p:cNvSpPr/>
          <p:nvPr/>
        </p:nvSpPr>
        <p:spPr>
          <a:xfrm>
            <a:off x="1708200" y="5640480"/>
            <a:ext cx="720720" cy="431640"/>
          </a:xfrm>
          <a:prstGeom prst="parallelogram">
            <a:avLst>
              <a:gd name="adj" fmla="val 250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6"/>
          <p:cNvSpPr/>
          <p:nvPr/>
        </p:nvSpPr>
        <p:spPr>
          <a:xfrm>
            <a:off x="923760" y="5641920"/>
            <a:ext cx="535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正五边形 17"/>
          <p:cNvSpPr/>
          <p:nvPr/>
        </p:nvSpPr>
        <p:spPr>
          <a:xfrm>
            <a:off x="3328920" y="5605560"/>
            <a:ext cx="719280" cy="503280"/>
          </a:xfrm>
          <a:prstGeom prst="pentag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18"/>
          <p:cNvSpPr/>
          <p:nvPr/>
        </p:nvSpPr>
        <p:spPr>
          <a:xfrm>
            <a:off x="2793960" y="5727600"/>
            <a:ext cx="53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19"/>
          <p:cNvSpPr/>
          <p:nvPr/>
        </p:nvSpPr>
        <p:spPr>
          <a:xfrm>
            <a:off x="4870440" y="5727600"/>
            <a:ext cx="53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矩形 20"/>
          <p:cNvSpPr/>
          <p:nvPr/>
        </p:nvSpPr>
        <p:spPr>
          <a:xfrm>
            <a:off x="5519880" y="5654520"/>
            <a:ext cx="576000" cy="5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文本框 21"/>
          <p:cNvSpPr/>
          <p:nvPr/>
        </p:nvSpPr>
        <p:spPr>
          <a:xfrm>
            <a:off x="5562720" y="1568520"/>
            <a:ext cx="5331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文本框 22"/>
          <p:cNvSpPr/>
          <p:nvPr/>
        </p:nvSpPr>
        <p:spPr>
          <a:xfrm>
            <a:off x="6794640" y="3206880"/>
            <a:ext cx="50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23"/>
          <p:cNvSpPr/>
          <p:nvPr/>
        </p:nvSpPr>
        <p:spPr>
          <a:xfrm>
            <a:off x="5370480" y="491796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103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4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105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6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7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8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9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0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1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2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文本框 1"/>
          <p:cNvSpPr/>
          <p:nvPr/>
        </p:nvSpPr>
        <p:spPr>
          <a:xfrm>
            <a:off x="299880" y="835200"/>
            <a:ext cx="78156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个长方形的长增加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，宽增加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厘米，它的周长（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4"/>
          <p:cNvSpPr/>
          <p:nvPr/>
        </p:nvSpPr>
        <p:spPr>
          <a:xfrm>
            <a:off x="635040" y="2206800"/>
            <a:ext cx="24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增加了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文本框 5"/>
          <p:cNvSpPr/>
          <p:nvPr/>
        </p:nvSpPr>
        <p:spPr>
          <a:xfrm>
            <a:off x="2938320" y="2206800"/>
            <a:ext cx="24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增加了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文本框 6"/>
          <p:cNvSpPr/>
          <p:nvPr/>
        </p:nvSpPr>
        <p:spPr>
          <a:xfrm>
            <a:off x="5324400" y="2206800"/>
            <a:ext cx="246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增加了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文本框 8"/>
          <p:cNvSpPr/>
          <p:nvPr/>
        </p:nvSpPr>
        <p:spPr>
          <a:xfrm>
            <a:off x="378000" y="3062160"/>
            <a:ext cx="781524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用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边长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厘米的小正方形拼成的图形中，周长最短的是（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组合 15"/>
          <p:cNvGrpSpPr/>
          <p:nvPr/>
        </p:nvGrpSpPr>
        <p:grpSpPr>
          <a:xfrm>
            <a:off x="1123920" y="4657680"/>
            <a:ext cx="865080" cy="577440"/>
            <a:chOff x="1123920" y="4657680"/>
            <a:chExt cx="865080" cy="577440"/>
          </a:xfrm>
        </p:grpSpPr>
        <p:sp>
          <p:nvSpPr>
            <p:cNvPr id="1119" name="矩形 9"/>
            <p:cNvSpPr/>
            <p:nvPr/>
          </p:nvSpPr>
          <p:spPr>
            <a:xfrm>
              <a:off x="1123920" y="465768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10"/>
            <p:cNvSpPr/>
            <p:nvPr/>
          </p:nvSpPr>
          <p:spPr>
            <a:xfrm>
              <a:off x="1412280" y="465768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11"/>
            <p:cNvSpPr/>
            <p:nvPr/>
          </p:nvSpPr>
          <p:spPr>
            <a:xfrm>
              <a:off x="1700640" y="465768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12"/>
            <p:cNvSpPr/>
            <p:nvPr/>
          </p:nvSpPr>
          <p:spPr>
            <a:xfrm>
              <a:off x="1123920" y="494640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矩形 13"/>
            <p:cNvSpPr/>
            <p:nvPr/>
          </p:nvSpPr>
          <p:spPr>
            <a:xfrm>
              <a:off x="1412280" y="494640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矩形 14"/>
            <p:cNvSpPr/>
            <p:nvPr/>
          </p:nvSpPr>
          <p:spPr>
            <a:xfrm>
              <a:off x="1700640" y="494640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5" name="组合 36"/>
          <p:cNvGrpSpPr/>
          <p:nvPr/>
        </p:nvGrpSpPr>
        <p:grpSpPr>
          <a:xfrm>
            <a:off x="3362400" y="4791240"/>
            <a:ext cx="1152360" cy="577440"/>
            <a:chOff x="3362400" y="4791240"/>
            <a:chExt cx="1152360" cy="577440"/>
          </a:xfrm>
        </p:grpSpPr>
        <p:sp>
          <p:nvSpPr>
            <p:cNvPr id="1126" name="矩形 16"/>
            <p:cNvSpPr/>
            <p:nvPr/>
          </p:nvSpPr>
          <p:spPr>
            <a:xfrm>
              <a:off x="3362400" y="479124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矩形 17"/>
            <p:cNvSpPr/>
            <p:nvPr/>
          </p:nvSpPr>
          <p:spPr>
            <a:xfrm>
              <a:off x="3650400" y="479124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矩形 18"/>
            <p:cNvSpPr/>
            <p:nvPr/>
          </p:nvSpPr>
          <p:spPr>
            <a:xfrm>
              <a:off x="3938400" y="479124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矩形 19"/>
            <p:cNvSpPr/>
            <p:nvPr/>
          </p:nvSpPr>
          <p:spPr>
            <a:xfrm>
              <a:off x="3650400" y="507996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矩形 20"/>
            <p:cNvSpPr/>
            <p:nvPr/>
          </p:nvSpPr>
          <p:spPr>
            <a:xfrm>
              <a:off x="3938400" y="507996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矩形 22"/>
            <p:cNvSpPr/>
            <p:nvPr/>
          </p:nvSpPr>
          <p:spPr>
            <a:xfrm>
              <a:off x="4226760" y="5079960"/>
              <a:ext cx="28800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组合 35"/>
          <p:cNvGrpSpPr/>
          <p:nvPr/>
        </p:nvGrpSpPr>
        <p:grpSpPr>
          <a:xfrm>
            <a:off x="6053040" y="4857840"/>
            <a:ext cx="1730520" cy="288720"/>
            <a:chOff x="6053040" y="4857840"/>
            <a:chExt cx="1730520" cy="288720"/>
          </a:xfrm>
        </p:grpSpPr>
        <p:sp>
          <p:nvSpPr>
            <p:cNvPr id="1133" name="矩形 23"/>
            <p:cNvSpPr/>
            <p:nvPr/>
          </p:nvSpPr>
          <p:spPr>
            <a:xfrm>
              <a:off x="605304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矩形 24"/>
            <p:cNvSpPr/>
            <p:nvPr/>
          </p:nvSpPr>
          <p:spPr>
            <a:xfrm>
              <a:off x="634140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矩形 25"/>
            <p:cNvSpPr/>
            <p:nvPr/>
          </p:nvSpPr>
          <p:spPr>
            <a:xfrm>
              <a:off x="662976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矩形 26"/>
            <p:cNvSpPr/>
            <p:nvPr/>
          </p:nvSpPr>
          <p:spPr>
            <a:xfrm>
              <a:off x="691812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矩形 27"/>
            <p:cNvSpPr/>
            <p:nvPr/>
          </p:nvSpPr>
          <p:spPr>
            <a:xfrm>
              <a:off x="720684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矩形 28"/>
            <p:cNvSpPr/>
            <p:nvPr/>
          </p:nvSpPr>
          <p:spPr>
            <a:xfrm>
              <a:off x="7495200" y="4857840"/>
              <a:ext cx="288360" cy="288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文本框 37"/>
          <p:cNvSpPr/>
          <p:nvPr/>
        </p:nvSpPr>
        <p:spPr>
          <a:xfrm>
            <a:off x="488880" y="4657680"/>
            <a:ext cx="479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文本框 38"/>
          <p:cNvSpPr/>
          <p:nvPr/>
        </p:nvSpPr>
        <p:spPr>
          <a:xfrm>
            <a:off x="2681280" y="4724280"/>
            <a:ext cx="480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文本框 39"/>
          <p:cNvSpPr/>
          <p:nvPr/>
        </p:nvSpPr>
        <p:spPr>
          <a:xfrm>
            <a:off x="5324400" y="4791240"/>
            <a:ext cx="480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40"/>
          <p:cNvSpPr/>
          <p:nvPr/>
        </p:nvSpPr>
        <p:spPr>
          <a:xfrm>
            <a:off x="968400" y="1441440"/>
            <a:ext cx="360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文本框 41"/>
          <p:cNvSpPr/>
          <p:nvPr/>
        </p:nvSpPr>
        <p:spPr>
          <a:xfrm>
            <a:off x="1689120" y="3616200"/>
            <a:ext cx="5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145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6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147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8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0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2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3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4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文本框 1"/>
          <p:cNvSpPr/>
          <p:nvPr/>
        </p:nvSpPr>
        <p:spPr>
          <a:xfrm>
            <a:off x="463680" y="847800"/>
            <a:ext cx="659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四、帮助图形找到家。（填序号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15"/>
          <p:cNvSpPr/>
          <p:nvPr/>
        </p:nvSpPr>
        <p:spPr>
          <a:xfrm>
            <a:off x="463680" y="4525920"/>
            <a:ext cx="13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边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16"/>
          <p:cNvSpPr/>
          <p:nvPr/>
        </p:nvSpPr>
        <p:spPr>
          <a:xfrm>
            <a:off x="3022560" y="4525920"/>
            <a:ext cx="1157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方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17"/>
          <p:cNvSpPr/>
          <p:nvPr/>
        </p:nvSpPr>
        <p:spPr>
          <a:xfrm>
            <a:off x="5635800" y="4525920"/>
            <a:ext cx="1114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方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组合 28"/>
          <p:cNvGrpSpPr/>
          <p:nvPr/>
        </p:nvGrpSpPr>
        <p:grpSpPr>
          <a:xfrm>
            <a:off x="971640" y="1700280"/>
            <a:ext cx="4155840" cy="2498760"/>
            <a:chOff x="971640" y="1700280"/>
            <a:chExt cx="4155840" cy="2498760"/>
          </a:xfrm>
        </p:grpSpPr>
        <p:sp>
          <p:nvSpPr>
            <p:cNvPr id="1160" name="平行四边形 4"/>
            <p:cNvSpPr/>
            <p:nvPr/>
          </p:nvSpPr>
          <p:spPr>
            <a:xfrm>
              <a:off x="971640" y="1802520"/>
              <a:ext cx="720000" cy="431640"/>
            </a:xfrm>
            <a:prstGeom prst="parallelogram">
              <a:avLst>
                <a:gd name="adj" fmla="val 2500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矩形 5"/>
            <p:cNvSpPr/>
            <p:nvPr/>
          </p:nvSpPr>
          <p:spPr>
            <a:xfrm>
              <a:off x="2163960" y="1802520"/>
              <a:ext cx="72000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等腰三角形 6"/>
            <p:cNvSpPr/>
            <p:nvPr/>
          </p:nvSpPr>
          <p:spPr>
            <a:xfrm flipH="1" rot="10800000">
              <a:off x="3517200" y="1766160"/>
              <a:ext cx="575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矩形 8"/>
            <p:cNvSpPr/>
            <p:nvPr/>
          </p:nvSpPr>
          <p:spPr>
            <a:xfrm rot="5400000">
              <a:off x="899280" y="2595960"/>
              <a:ext cx="72000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梯形 9"/>
            <p:cNvSpPr/>
            <p:nvPr/>
          </p:nvSpPr>
          <p:spPr>
            <a:xfrm>
              <a:off x="2163960" y="2451960"/>
              <a:ext cx="782280" cy="504000"/>
            </a:xfrm>
            <a:custGeom>
              <a:avLst/>
              <a:gdLst/>
              <a:ahLst/>
              <a:rect l="l" t="t" r="r" b="b"/>
              <a:pathLst>
                <a:path w="1232" h="794">
                  <a:moveTo>
                    <a:pt x="0" y="794"/>
                  </a:moveTo>
                  <a:lnTo>
                    <a:pt x="198" y="0"/>
                  </a:lnTo>
                  <a:lnTo>
                    <a:pt x="1033" y="0"/>
                  </a:lnTo>
                  <a:lnTo>
                    <a:pt x="1232" y="79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矩形 10"/>
            <p:cNvSpPr/>
            <p:nvPr/>
          </p:nvSpPr>
          <p:spPr>
            <a:xfrm rot="21060000">
              <a:off x="3708360" y="2631960"/>
              <a:ext cx="359640" cy="360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11"/>
            <p:cNvSpPr/>
            <p:nvPr/>
          </p:nvSpPr>
          <p:spPr>
            <a:xfrm>
              <a:off x="4695840" y="2586600"/>
              <a:ext cx="43164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菱形 12"/>
            <p:cNvSpPr/>
            <p:nvPr/>
          </p:nvSpPr>
          <p:spPr>
            <a:xfrm>
              <a:off x="972000" y="3406680"/>
              <a:ext cx="575640" cy="79236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平行四边形 13"/>
            <p:cNvSpPr/>
            <p:nvPr/>
          </p:nvSpPr>
          <p:spPr>
            <a:xfrm rot="5400000">
              <a:off x="2163240" y="3550680"/>
              <a:ext cx="720000" cy="431640"/>
            </a:xfrm>
            <a:prstGeom prst="parallelogram">
              <a:avLst>
                <a:gd name="adj" fmla="val 2500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矩形 14"/>
            <p:cNvSpPr/>
            <p:nvPr/>
          </p:nvSpPr>
          <p:spPr>
            <a:xfrm rot="3000000">
              <a:off x="3598200" y="3431520"/>
              <a:ext cx="575640" cy="57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文本框 18"/>
            <p:cNvSpPr/>
            <p:nvPr/>
          </p:nvSpPr>
          <p:spPr>
            <a:xfrm>
              <a:off x="1044000" y="180252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文本框 19"/>
            <p:cNvSpPr/>
            <p:nvPr/>
          </p:nvSpPr>
          <p:spPr>
            <a:xfrm>
              <a:off x="2270520" y="181116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文本框 20"/>
            <p:cNvSpPr/>
            <p:nvPr/>
          </p:nvSpPr>
          <p:spPr>
            <a:xfrm>
              <a:off x="972000" y="258660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文本框 21"/>
            <p:cNvSpPr/>
            <p:nvPr/>
          </p:nvSpPr>
          <p:spPr>
            <a:xfrm>
              <a:off x="3553920" y="170028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文本框 22"/>
            <p:cNvSpPr/>
            <p:nvPr/>
          </p:nvSpPr>
          <p:spPr>
            <a:xfrm>
              <a:off x="2307960" y="2443320"/>
              <a:ext cx="50652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文本框 23"/>
            <p:cNvSpPr/>
            <p:nvPr/>
          </p:nvSpPr>
          <p:spPr>
            <a:xfrm>
              <a:off x="3611520" y="251496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文本框 24"/>
            <p:cNvSpPr/>
            <p:nvPr/>
          </p:nvSpPr>
          <p:spPr>
            <a:xfrm>
              <a:off x="4624920" y="25156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文本框 25"/>
            <p:cNvSpPr/>
            <p:nvPr/>
          </p:nvSpPr>
          <p:spPr>
            <a:xfrm>
              <a:off x="993240" y="3479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文本框 26"/>
            <p:cNvSpPr/>
            <p:nvPr/>
          </p:nvSpPr>
          <p:spPr>
            <a:xfrm>
              <a:off x="2292120" y="351504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文本框 27"/>
            <p:cNvSpPr/>
            <p:nvPr/>
          </p:nvSpPr>
          <p:spPr>
            <a:xfrm>
              <a:off x="3611520" y="346932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圆角矩形 35"/>
          <p:cNvSpPr/>
          <p:nvPr/>
        </p:nvSpPr>
        <p:spPr>
          <a:xfrm>
            <a:off x="2946240" y="4489560"/>
            <a:ext cx="2275200" cy="1644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圆角矩形 36"/>
          <p:cNvSpPr/>
          <p:nvPr/>
        </p:nvSpPr>
        <p:spPr>
          <a:xfrm>
            <a:off x="463680" y="4525920"/>
            <a:ext cx="2252520" cy="1677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圆角矩形 37"/>
          <p:cNvSpPr/>
          <p:nvPr/>
        </p:nvSpPr>
        <p:spPr>
          <a:xfrm>
            <a:off x="5562720" y="4489560"/>
            <a:ext cx="2305080" cy="1644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3" name="组合 13"/>
          <p:cNvGrpSpPr/>
          <p:nvPr/>
        </p:nvGrpSpPr>
        <p:grpSpPr>
          <a:xfrm>
            <a:off x="507240" y="5129280"/>
            <a:ext cx="2207160" cy="1024560"/>
            <a:chOff x="507240" y="5129280"/>
            <a:chExt cx="2207160" cy="1024560"/>
          </a:xfrm>
        </p:grpSpPr>
        <p:sp>
          <p:nvSpPr>
            <p:cNvPr id="1184" name="文本框 39"/>
            <p:cNvSpPr/>
            <p:nvPr/>
          </p:nvSpPr>
          <p:spPr>
            <a:xfrm>
              <a:off x="50724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文本框 40"/>
            <p:cNvSpPr/>
            <p:nvPr/>
          </p:nvSpPr>
          <p:spPr>
            <a:xfrm>
              <a:off x="98316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文本框 41"/>
            <p:cNvSpPr/>
            <p:nvPr/>
          </p:nvSpPr>
          <p:spPr>
            <a:xfrm>
              <a:off x="146988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文本框 42"/>
            <p:cNvSpPr/>
            <p:nvPr/>
          </p:nvSpPr>
          <p:spPr>
            <a:xfrm>
              <a:off x="195696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文本框 43"/>
            <p:cNvSpPr/>
            <p:nvPr/>
          </p:nvSpPr>
          <p:spPr>
            <a:xfrm>
              <a:off x="507240" y="5648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文本框 44"/>
            <p:cNvSpPr/>
            <p:nvPr/>
          </p:nvSpPr>
          <p:spPr>
            <a:xfrm>
              <a:off x="972360" y="563256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文本框 45"/>
            <p:cNvSpPr/>
            <p:nvPr/>
          </p:nvSpPr>
          <p:spPr>
            <a:xfrm>
              <a:off x="1459080" y="5648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文本框 46"/>
            <p:cNvSpPr/>
            <p:nvPr/>
          </p:nvSpPr>
          <p:spPr>
            <a:xfrm>
              <a:off x="1823400" y="5648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文本框 47"/>
            <p:cNvSpPr/>
            <p:nvPr/>
          </p:nvSpPr>
          <p:spPr>
            <a:xfrm>
              <a:off x="2230560" y="564840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组合 14"/>
          <p:cNvGrpSpPr/>
          <p:nvPr/>
        </p:nvGrpSpPr>
        <p:grpSpPr>
          <a:xfrm>
            <a:off x="3125160" y="5207040"/>
            <a:ext cx="1052640" cy="505440"/>
            <a:chOff x="3125160" y="5207040"/>
            <a:chExt cx="1052640" cy="505440"/>
          </a:xfrm>
        </p:grpSpPr>
        <p:sp>
          <p:nvSpPr>
            <p:cNvPr id="1194" name="文本框 48"/>
            <p:cNvSpPr/>
            <p:nvPr/>
          </p:nvSpPr>
          <p:spPr>
            <a:xfrm>
              <a:off x="3125160" y="520704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文本框 49"/>
            <p:cNvSpPr/>
            <p:nvPr/>
          </p:nvSpPr>
          <p:spPr>
            <a:xfrm>
              <a:off x="3693960" y="520704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组合 15"/>
          <p:cNvGrpSpPr/>
          <p:nvPr/>
        </p:nvGrpSpPr>
        <p:grpSpPr>
          <a:xfrm>
            <a:off x="5865120" y="5113440"/>
            <a:ext cx="1083240" cy="521280"/>
            <a:chOff x="5865120" y="5113440"/>
            <a:chExt cx="1083240" cy="521280"/>
          </a:xfrm>
        </p:grpSpPr>
        <p:sp>
          <p:nvSpPr>
            <p:cNvPr id="1197" name="文本框 51"/>
            <p:cNvSpPr/>
            <p:nvPr/>
          </p:nvSpPr>
          <p:spPr>
            <a:xfrm>
              <a:off x="5865120" y="512928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52"/>
            <p:cNvSpPr/>
            <p:nvPr/>
          </p:nvSpPr>
          <p:spPr>
            <a:xfrm>
              <a:off x="6464520" y="5113440"/>
              <a:ext cx="483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00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1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02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3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5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0" name="文本框 47"/>
          <p:cNvSpPr/>
          <p:nvPr/>
        </p:nvSpPr>
        <p:spPr>
          <a:xfrm>
            <a:off x="4330080" y="5218200"/>
            <a:ext cx="48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文本框 1"/>
          <p:cNvSpPr/>
          <p:nvPr/>
        </p:nvSpPr>
        <p:spPr>
          <a:xfrm>
            <a:off x="158760" y="720720"/>
            <a:ext cx="2563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4"/>
          <p:cNvSpPr/>
          <p:nvPr/>
        </p:nvSpPr>
        <p:spPr>
          <a:xfrm>
            <a:off x="279360" y="1474920"/>
            <a:ext cx="790740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华沿着一个边长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的正方形池塘跑了两圈，他一共跑了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5"/>
          <p:cNvSpPr/>
          <p:nvPr/>
        </p:nvSpPr>
        <p:spPr>
          <a:xfrm>
            <a:off x="1276200" y="3141720"/>
            <a:ext cx="485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=6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文本框 6"/>
          <p:cNvSpPr/>
          <p:nvPr/>
        </p:nvSpPr>
        <p:spPr>
          <a:xfrm>
            <a:off x="905040" y="3855960"/>
            <a:ext cx="64036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他一共跑了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16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7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18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9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0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1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2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3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5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文本框 1"/>
          <p:cNvSpPr/>
          <p:nvPr/>
        </p:nvSpPr>
        <p:spPr>
          <a:xfrm>
            <a:off x="281160" y="876240"/>
            <a:ext cx="853884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块长方形菜地，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，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米。四周围上篱笆，篱笆长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文本框 5"/>
          <p:cNvSpPr/>
          <p:nvPr/>
        </p:nvSpPr>
        <p:spPr>
          <a:xfrm>
            <a:off x="1276200" y="2822400"/>
            <a:ext cx="4859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0+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=16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=3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文本框 4"/>
          <p:cNvSpPr/>
          <p:nvPr/>
        </p:nvSpPr>
        <p:spPr>
          <a:xfrm>
            <a:off x="1352520" y="3794040"/>
            <a:ext cx="29862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篱笆长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组合 2"/>
          <p:cNvGrpSpPr/>
          <p:nvPr/>
        </p:nvGrpSpPr>
        <p:grpSpPr>
          <a:xfrm>
            <a:off x="0" y="101520"/>
            <a:ext cx="3311640" cy="525600"/>
            <a:chOff x="0" y="101520"/>
            <a:chExt cx="3311640" cy="525600"/>
          </a:xfrm>
        </p:grpSpPr>
        <p:pic>
          <p:nvPicPr>
            <p:cNvPr id="1230" name="圆角矩形 1" descr=""/>
            <p:cNvPicPr/>
            <p:nvPr/>
          </p:nvPicPr>
          <p:blipFill>
            <a:blip r:embed="rId1"/>
            <a:stretch/>
          </p:blipFill>
          <p:spPr>
            <a:xfrm>
              <a:off x="154080" y="101520"/>
              <a:ext cx="315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1" name="组合 4"/>
            <p:cNvGrpSpPr/>
            <p:nvPr/>
          </p:nvGrpSpPr>
          <p:grpSpPr>
            <a:xfrm>
              <a:off x="0" y="197280"/>
              <a:ext cx="439200" cy="272160"/>
              <a:chOff x="0" y="197280"/>
              <a:chExt cx="439200" cy="272160"/>
            </a:xfrm>
          </p:grpSpPr>
          <p:sp>
            <p:nvSpPr>
              <p:cNvPr id="1232" name="椭圆 4"/>
              <p:cNvSpPr/>
              <p:nvPr/>
            </p:nvSpPr>
            <p:spPr>
              <a:xfrm rot="16200000">
                <a:off x="244800" y="35964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3" name="椭圆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" y="32148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椭圆 6"/>
              <p:cNvSpPr/>
              <p:nvPr/>
            </p:nvSpPr>
            <p:spPr>
              <a:xfrm rot="16200000">
                <a:off x="244800" y="233280"/>
                <a:ext cx="98640" cy="120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5" name="椭圆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5720" y="211320"/>
                <a:ext cx="213480" cy="11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6" name="圆角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732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7" name="圆角矩形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0996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圆角矩形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圆角矩形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65400" cy="97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11:36Z</dcterms:created>
  <dc:creator/>
  <dc:description/>
  <dc:language>en-US</dc:language>
  <cp:lastModifiedBy>万润仪器贸易公司</cp:lastModifiedBy>
  <dcterms:modified xsi:type="dcterms:W3CDTF">2020-08-21T01:29:4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